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DFB-9AB8-4187-8A6A-0D2046FC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42B-F562-42BA-914F-73F0B344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D77-8F00-4E9D-88DC-22307E24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338-6981-40C4-85B8-583E9ED6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1978-0A62-4041-935F-5E3D26BB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802A-F994-4A3B-912F-87934E28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EB8C-B6B8-4CD3-BD89-D2417E58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18A5-11FE-4BF0-990C-4D64ACA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4B51-9272-4157-A4B0-FB1188F7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715A-D594-4CFF-BCEB-6C890786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2B2D-F16A-4ECC-B47D-5A9335EF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A5A-0499-476F-9928-60074889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18C-8FF5-4419-853F-0A303CF6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BE86-5961-45D1-9F85-D01341D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F020-BCD1-4FD8-8A60-1B7BEC99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61E0-4198-4131-981C-B421FE5B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1AD2-688C-4051-9B97-3DFC2946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4CF-C93F-4691-B245-69EF6A0E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D7B-1B7D-4082-B789-12B2FB59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D57-D24C-4BDC-8D51-5F6FCBFA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999-AB9F-456D-A9F6-957C817C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D1C-4B84-4B8A-BAEA-6869974C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5B3-0C9F-4A02-8986-CBFB4420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A0D-A895-4D14-A9FD-624B734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33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5B6B-64F4-4EB9-9770-917994407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6143760"/>
            <a:ext cx="9143280" cy="713880"/>
            <a:chOff x="0" y="6143760"/>
            <a:chExt cx="9143280" cy="713880"/>
          </a:xfrm>
        </p:grpSpPr>
        <p:grpSp>
          <p:nvGrpSpPr>
            <p:cNvPr id="6" name="Group 8"/>
            <p:cNvGrpSpPr/>
            <p:nvPr/>
          </p:nvGrpSpPr>
          <p:grpSpPr>
            <a:xfrm>
              <a:off x="0" y="6143760"/>
              <a:ext cx="3580560" cy="713880"/>
              <a:chOff x="0" y="6143760"/>
              <a:chExt cx="3580560" cy="7138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19612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9612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1262880" y="6631920"/>
                <a:ext cx="15444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5127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17316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7316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15127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15127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1262880" y="6297840"/>
                <a:ext cx="15444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356040" y="6591960"/>
                <a:ext cx="82800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661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459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65340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109440" y="6591960"/>
                <a:ext cx="11952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0" y="6791760"/>
                <a:ext cx="35805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3008520" y="6654960"/>
                <a:ext cx="11952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2197440" y="6642360"/>
                <a:ext cx="23976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251568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3008520" y="6184440"/>
                <a:ext cx="11952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251568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2197440" y="6161400"/>
                <a:ext cx="23976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2197440" y="6683040"/>
                <a:ext cx="23976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32655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32655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285084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65608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288900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Group 39"/>
            <p:cNvGrpSpPr/>
            <p:nvPr/>
          </p:nvGrpSpPr>
          <p:grpSpPr>
            <a:xfrm>
              <a:off x="2743200" y="6143760"/>
              <a:ext cx="3580560" cy="713880"/>
              <a:chOff x="2743200" y="6143760"/>
              <a:chExt cx="3580560" cy="713880"/>
            </a:xfrm>
          </p:grpSpPr>
          <p:sp>
            <p:nvSpPr>
              <p:cNvPr id="38" name="Rectangle 40"/>
              <p:cNvSpPr/>
              <p:nvPr/>
            </p:nvSpPr>
            <p:spPr>
              <a:xfrm>
                <a:off x="29448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4006080" y="6631920"/>
                <a:ext cx="15444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4006080" y="6297840"/>
                <a:ext cx="15444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3099240" y="6591960"/>
                <a:ext cx="82800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36093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34891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339660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29037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2852640" y="6591960"/>
                <a:ext cx="11952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30441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2743200" y="6791760"/>
                <a:ext cx="35805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5751720" y="6654960"/>
                <a:ext cx="11952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4940640" y="6642360"/>
                <a:ext cx="23976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525888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5751720" y="6184440"/>
                <a:ext cx="11952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525888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4940640" y="6161400"/>
                <a:ext cx="23976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4940640" y="6683040"/>
                <a:ext cx="23976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6008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6008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559404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539928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563220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5562720" y="6143760"/>
              <a:ext cx="3580560" cy="713880"/>
              <a:chOff x="5562720" y="6143760"/>
              <a:chExt cx="3580560" cy="713880"/>
            </a:xfrm>
          </p:grpSpPr>
          <p:sp>
            <p:nvSpPr>
              <p:cNvPr id="69" name="Rectangle 71"/>
              <p:cNvSpPr/>
              <p:nvPr/>
            </p:nvSpPr>
            <p:spPr>
              <a:xfrm>
                <a:off x="57643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752400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752400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6825600" y="6631920"/>
                <a:ext cx="15444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707544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729432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729432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707544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707544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6825600" y="6297840"/>
                <a:ext cx="15444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5918760" y="6591960"/>
                <a:ext cx="82800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642888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30864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621612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>
                <a:off x="57232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5672160" y="6591960"/>
                <a:ext cx="11952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58636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5562720" y="6791760"/>
                <a:ext cx="35805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571240" y="6654960"/>
                <a:ext cx="11952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7760160" y="6642360"/>
                <a:ext cx="23976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07840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571240" y="6184440"/>
                <a:ext cx="11952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07840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7760160" y="6161400"/>
                <a:ext cx="23976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7760160" y="6683040"/>
                <a:ext cx="23976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8282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282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41356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2188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33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7"/>
          <p:cNvGrpSpPr/>
          <p:nvPr/>
        </p:nvGrpSpPr>
        <p:grpSpPr>
          <a:xfrm>
            <a:off x="0" y="6143760"/>
            <a:ext cx="9142920" cy="713880"/>
            <a:chOff x="0" y="6143760"/>
            <a:chExt cx="9142920" cy="713880"/>
          </a:xfrm>
        </p:grpSpPr>
        <p:grpSp>
          <p:nvGrpSpPr>
            <p:cNvPr id="136" name="Group 8"/>
            <p:cNvGrpSpPr/>
            <p:nvPr/>
          </p:nvGrpSpPr>
          <p:grpSpPr>
            <a:xfrm>
              <a:off x="0" y="6143760"/>
              <a:ext cx="3578760" cy="713880"/>
              <a:chOff x="0" y="6143760"/>
              <a:chExt cx="3578760" cy="713880"/>
            </a:xfrm>
          </p:grpSpPr>
          <p:sp>
            <p:nvSpPr>
              <p:cNvPr id="137" name="Rectangle 9"/>
              <p:cNvSpPr/>
              <p:nvPr/>
            </p:nvSpPr>
            <p:spPr>
              <a:xfrm>
                <a:off x="20160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"/>
              <p:cNvSpPr/>
              <p:nvPr/>
            </p:nvSpPr>
            <p:spPr>
              <a:xfrm>
                <a:off x="196056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1"/>
              <p:cNvSpPr/>
              <p:nvPr/>
            </p:nvSpPr>
            <p:spPr>
              <a:xfrm>
                <a:off x="196056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2"/>
              <p:cNvSpPr/>
              <p:nvPr/>
            </p:nvSpPr>
            <p:spPr>
              <a:xfrm>
                <a:off x="126216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3"/>
              <p:cNvSpPr/>
              <p:nvPr/>
            </p:nvSpPr>
            <p:spPr>
              <a:xfrm>
                <a:off x="151200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173088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5"/>
              <p:cNvSpPr/>
              <p:nvPr/>
            </p:nvSpPr>
            <p:spPr>
              <a:xfrm>
                <a:off x="173088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6"/>
              <p:cNvSpPr/>
              <p:nvPr/>
            </p:nvSpPr>
            <p:spPr>
              <a:xfrm>
                <a:off x="151200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7"/>
              <p:cNvSpPr/>
              <p:nvPr/>
            </p:nvSpPr>
            <p:spPr>
              <a:xfrm>
                <a:off x="151200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8"/>
              <p:cNvSpPr/>
              <p:nvPr/>
            </p:nvSpPr>
            <p:spPr>
              <a:xfrm>
                <a:off x="126216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9"/>
              <p:cNvSpPr/>
              <p:nvPr/>
            </p:nvSpPr>
            <p:spPr>
              <a:xfrm>
                <a:off x="35604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0"/>
              <p:cNvSpPr/>
              <p:nvPr/>
            </p:nvSpPr>
            <p:spPr>
              <a:xfrm>
                <a:off x="86580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21"/>
              <p:cNvSpPr/>
              <p:nvPr/>
            </p:nvSpPr>
            <p:spPr>
              <a:xfrm>
                <a:off x="74556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2"/>
              <p:cNvSpPr/>
              <p:nvPr/>
            </p:nvSpPr>
            <p:spPr>
              <a:xfrm>
                <a:off x="65304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3"/>
              <p:cNvSpPr/>
              <p:nvPr/>
            </p:nvSpPr>
            <p:spPr>
              <a:xfrm>
                <a:off x="16056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24"/>
              <p:cNvSpPr/>
              <p:nvPr/>
            </p:nvSpPr>
            <p:spPr>
              <a:xfrm>
                <a:off x="10908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5"/>
              <p:cNvSpPr/>
              <p:nvPr/>
            </p:nvSpPr>
            <p:spPr>
              <a:xfrm>
                <a:off x="30096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6"/>
              <p:cNvSpPr/>
              <p:nvPr/>
            </p:nvSpPr>
            <p:spPr>
              <a:xfrm>
                <a:off x="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27"/>
              <p:cNvSpPr/>
              <p:nvPr/>
            </p:nvSpPr>
            <p:spPr>
              <a:xfrm>
                <a:off x="300708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8"/>
              <p:cNvSpPr/>
              <p:nvPr/>
            </p:nvSpPr>
            <p:spPr>
              <a:xfrm>
                <a:off x="219636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9"/>
              <p:cNvSpPr/>
              <p:nvPr/>
            </p:nvSpPr>
            <p:spPr>
              <a:xfrm>
                <a:off x="251424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0"/>
              <p:cNvSpPr/>
              <p:nvPr/>
            </p:nvSpPr>
            <p:spPr>
              <a:xfrm>
                <a:off x="300708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1"/>
              <p:cNvSpPr/>
              <p:nvPr/>
            </p:nvSpPr>
            <p:spPr>
              <a:xfrm>
                <a:off x="251424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32"/>
              <p:cNvSpPr/>
              <p:nvPr/>
            </p:nvSpPr>
            <p:spPr>
              <a:xfrm>
                <a:off x="219636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3"/>
              <p:cNvSpPr/>
              <p:nvPr/>
            </p:nvSpPr>
            <p:spPr>
              <a:xfrm>
                <a:off x="219636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4"/>
              <p:cNvSpPr/>
              <p:nvPr/>
            </p:nvSpPr>
            <p:spPr>
              <a:xfrm>
                <a:off x="326376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35"/>
              <p:cNvSpPr/>
              <p:nvPr/>
            </p:nvSpPr>
            <p:spPr>
              <a:xfrm>
                <a:off x="326376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6"/>
              <p:cNvSpPr/>
              <p:nvPr/>
            </p:nvSpPr>
            <p:spPr>
              <a:xfrm>
                <a:off x="284940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"/>
              <p:cNvSpPr/>
              <p:nvPr/>
            </p:nvSpPr>
            <p:spPr>
              <a:xfrm>
                <a:off x="265500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38"/>
              <p:cNvSpPr/>
              <p:nvPr/>
            </p:nvSpPr>
            <p:spPr>
              <a:xfrm>
                <a:off x="288756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39"/>
            <p:cNvGrpSpPr/>
            <p:nvPr/>
          </p:nvGrpSpPr>
          <p:grpSpPr>
            <a:xfrm>
              <a:off x="2743920" y="6143760"/>
              <a:ext cx="3578760" cy="713880"/>
              <a:chOff x="2743920" y="6143760"/>
              <a:chExt cx="3578760" cy="713880"/>
            </a:xfrm>
          </p:grpSpPr>
          <p:sp>
            <p:nvSpPr>
              <p:cNvPr id="168" name="Rectangle 40"/>
              <p:cNvSpPr/>
              <p:nvPr/>
            </p:nvSpPr>
            <p:spPr>
              <a:xfrm>
                <a:off x="2945520" y="6432120"/>
                <a:ext cx="6400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41"/>
              <p:cNvSpPr/>
              <p:nvPr/>
            </p:nvSpPr>
            <p:spPr>
              <a:xfrm>
                <a:off x="470448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42"/>
              <p:cNvSpPr/>
              <p:nvPr/>
            </p:nvSpPr>
            <p:spPr>
              <a:xfrm>
                <a:off x="470448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43"/>
              <p:cNvSpPr/>
              <p:nvPr/>
            </p:nvSpPr>
            <p:spPr>
              <a:xfrm>
                <a:off x="40060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44"/>
              <p:cNvSpPr/>
              <p:nvPr/>
            </p:nvSpPr>
            <p:spPr>
              <a:xfrm>
                <a:off x="42559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5"/>
              <p:cNvSpPr/>
              <p:nvPr/>
            </p:nvSpPr>
            <p:spPr>
              <a:xfrm>
                <a:off x="447480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46"/>
              <p:cNvSpPr/>
              <p:nvPr/>
            </p:nvSpPr>
            <p:spPr>
              <a:xfrm>
                <a:off x="447480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47"/>
              <p:cNvSpPr/>
              <p:nvPr/>
            </p:nvSpPr>
            <p:spPr>
              <a:xfrm>
                <a:off x="42559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48"/>
              <p:cNvSpPr/>
              <p:nvPr/>
            </p:nvSpPr>
            <p:spPr>
              <a:xfrm>
                <a:off x="42559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49"/>
              <p:cNvSpPr/>
              <p:nvPr/>
            </p:nvSpPr>
            <p:spPr>
              <a:xfrm>
                <a:off x="40060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50"/>
              <p:cNvSpPr/>
              <p:nvPr/>
            </p:nvSpPr>
            <p:spPr>
              <a:xfrm>
                <a:off x="30999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360972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52"/>
              <p:cNvSpPr/>
              <p:nvPr/>
            </p:nvSpPr>
            <p:spPr>
              <a:xfrm>
                <a:off x="348948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53"/>
              <p:cNvSpPr/>
              <p:nvPr/>
            </p:nvSpPr>
            <p:spPr>
              <a:xfrm>
                <a:off x="33969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4"/>
              <p:cNvSpPr/>
              <p:nvPr/>
            </p:nvSpPr>
            <p:spPr>
              <a:xfrm>
                <a:off x="2904480" y="6278040"/>
                <a:ext cx="46548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55"/>
              <p:cNvSpPr/>
              <p:nvPr/>
            </p:nvSpPr>
            <p:spPr>
              <a:xfrm>
                <a:off x="28530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56"/>
              <p:cNvSpPr/>
              <p:nvPr/>
            </p:nvSpPr>
            <p:spPr>
              <a:xfrm>
                <a:off x="30448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57"/>
              <p:cNvSpPr/>
              <p:nvPr/>
            </p:nvSpPr>
            <p:spPr>
              <a:xfrm>
                <a:off x="2743920" y="6791760"/>
                <a:ext cx="357876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58"/>
              <p:cNvSpPr/>
              <p:nvPr/>
            </p:nvSpPr>
            <p:spPr>
              <a:xfrm>
                <a:off x="575100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59"/>
              <p:cNvSpPr/>
              <p:nvPr/>
            </p:nvSpPr>
            <p:spPr>
              <a:xfrm>
                <a:off x="494028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0"/>
              <p:cNvSpPr/>
              <p:nvPr/>
            </p:nvSpPr>
            <p:spPr>
              <a:xfrm>
                <a:off x="52581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1"/>
              <p:cNvSpPr/>
              <p:nvPr/>
            </p:nvSpPr>
            <p:spPr>
              <a:xfrm>
                <a:off x="575100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2"/>
              <p:cNvSpPr/>
              <p:nvPr/>
            </p:nvSpPr>
            <p:spPr>
              <a:xfrm>
                <a:off x="52581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63"/>
              <p:cNvSpPr/>
              <p:nvPr/>
            </p:nvSpPr>
            <p:spPr>
              <a:xfrm>
                <a:off x="494028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64"/>
              <p:cNvSpPr/>
              <p:nvPr/>
            </p:nvSpPr>
            <p:spPr>
              <a:xfrm>
                <a:off x="494028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65"/>
              <p:cNvSpPr/>
              <p:nvPr/>
            </p:nvSpPr>
            <p:spPr>
              <a:xfrm>
                <a:off x="600768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66"/>
              <p:cNvSpPr/>
              <p:nvPr/>
            </p:nvSpPr>
            <p:spPr>
              <a:xfrm>
                <a:off x="600768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67"/>
              <p:cNvSpPr/>
              <p:nvPr/>
            </p:nvSpPr>
            <p:spPr>
              <a:xfrm>
                <a:off x="55933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8"/>
              <p:cNvSpPr/>
              <p:nvPr/>
            </p:nvSpPr>
            <p:spPr>
              <a:xfrm>
                <a:off x="539892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69"/>
              <p:cNvSpPr/>
              <p:nvPr/>
            </p:nvSpPr>
            <p:spPr>
              <a:xfrm>
                <a:off x="563148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70"/>
            <p:cNvGrpSpPr/>
            <p:nvPr/>
          </p:nvGrpSpPr>
          <p:grpSpPr>
            <a:xfrm>
              <a:off x="5564520" y="6143760"/>
              <a:ext cx="3578400" cy="713880"/>
              <a:chOff x="5564520" y="6143760"/>
              <a:chExt cx="3578400" cy="713880"/>
            </a:xfrm>
          </p:grpSpPr>
          <p:sp>
            <p:nvSpPr>
              <p:cNvPr id="199" name="Rectangle 71"/>
              <p:cNvSpPr/>
              <p:nvPr/>
            </p:nvSpPr>
            <p:spPr>
              <a:xfrm>
                <a:off x="5766120" y="6432120"/>
                <a:ext cx="63972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72"/>
              <p:cNvSpPr/>
              <p:nvPr/>
            </p:nvSpPr>
            <p:spPr>
              <a:xfrm>
                <a:off x="7524720" y="6308280"/>
                <a:ext cx="8820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73"/>
              <p:cNvSpPr/>
              <p:nvPr/>
            </p:nvSpPr>
            <p:spPr>
              <a:xfrm>
                <a:off x="7524720" y="6568920"/>
                <a:ext cx="882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4"/>
              <p:cNvSpPr/>
              <p:nvPr/>
            </p:nvSpPr>
            <p:spPr>
              <a:xfrm>
                <a:off x="6826680" y="6631920"/>
                <a:ext cx="154080" cy="114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5"/>
              <p:cNvSpPr/>
              <p:nvPr/>
            </p:nvSpPr>
            <p:spPr>
              <a:xfrm>
                <a:off x="7076520" y="6563880"/>
                <a:ext cx="14724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76"/>
              <p:cNvSpPr/>
              <p:nvPr/>
            </p:nvSpPr>
            <p:spPr>
              <a:xfrm>
                <a:off x="7295040" y="6631920"/>
                <a:ext cx="126360" cy="10656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7"/>
              <p:cNvSpPr/>
              <p:nvPr/>
            </p:nvSpPr>
            <p:spPr>
              <a:xfrm>
                <a:off x="7295040" y="6143760"/>
                <a:ext cx="126360" cy="428040"/>
              </a:xfrm>
              <a:prstGeom prst="rect">
                <a:avLst/>
              </a:prstGeom>
              <a:solidFill>
                <a:srgbClr val="ffa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78"/>
              <p:cNvSpPr/>
              <p:nvPr/>
            </p:nvSpPr>
            <p:spPr>
              <a:xfrm>
                <a:off x="7076520" y="6166440"/>
                <a:ext cx="14724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79"/>
              <p:cNvSpPr/>
              <p:nvPr/>
            </p:nvSpPr>
            <p:spPr>
              <a:xfrm>
                <a:off x="7076520" y="6606720"/>
                <a:ext cx="147240" cy="13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80"/>
              <p:cNvSpPr/>
              <p:nvPr/>
            </p:nvSpPr>
            <p:spPr>
              <a:xfrm>
                <a:off x="6826680" y="6297840"/>
                <a:ext cx="154080" cy="29088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1"/>
              <p:cNvSpPr/>
              <p:nvPr/>
            </p:nvSpPr>
            <p:spPr>
              <a:xfrm>
                <a:off x="5920560" y="6591960"/>
                <a:ext cx="82764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2"/>
              <p:cNvSpPr/>
              <p:nvPr/>
            </p:nvSpPr>
            <p:spPr>
              <a:xfrm>
                <a:off x="6429960" y="6432120"/>
                <a:ext cx="1432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83"/>
              <p:cNvSpPr/>
              <p:nvPr/>
            </p:nvSpPr>
            <p:spPr>
              <a:xfrm>
                <a:off x="6309720" y="6278040"/>
                <a:ext cx="619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4"/>
              <p:cNvSpPr/>
              <p:nvPr/>
            </p:nvSpPr>
            <p:spPr>
              <a:xfrm>
                <a:off x="6217560" y="6278040"/>
                <a:ext cx="4104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85"/>
              <p:cNvSpPr/>
              <p:nvPr/>
            </p:nvSpPr>
            <p:spPr>
              <a:xfrm>
                <a:off x="5725080" y="6278040"/>
                <a:ext cx="465120" cy="108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86"/>
              <p:cNvSpPr/>
              <p:nvPr/>
            </p:nvSpPr>
            <p:spPr>
              <a:xfrm>
                <a:off x="5673600" y="6591960"/>
                <a:ext cx="11916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87"/>
              <p:cNvSpPr/>
              <p:nvPr/>
            </p:nvSpPr>
            <p:spPr>
              <a:xfrm>
                <a:off x="5865480" y="6591960"/>
                <a:ext cx="20880" cy="13860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88"/>
              <p:cNvSpPr/>
              <p:nvPr/>
            </p:nvSpPr>
            <p:spPr>
              <a:xfrm>
                <a:off x="5564520" y="6791760"/>
                <a:ext cx="3578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89"/>
              <p:cNvSpPr/>
              <p:nvPr/>
            </p:nvSpPr>
            <p:spPr>
              <a:xfrm>
                <a:off x="8571240" y="6654960"/>
                <a:ext cx="119160" cy="9612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90"/>
              <p:cNvSpPr/>
              <p:nvPr/>
            </p:nvSpPr>
            <p:spPr>
              <a:xfrm>
                <a:off x="7760520" y="6642360"/>
                <a:ext cx="239400" cy="252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91"/>
              <p:cNvSpPr/>
              <p:nvPr/>
            </p:nvSpPr>
            <p:spPr>
              <a:xfrm>
                <a:off x="8078760" y="654876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92"/>
              <p:cNvSpPr/>
              <p:nvPr/>
            </p:nvSpPr>
            <p:spPr>
              <a:xfrm>
                <a:off x="8571240" y="6184440"/>
                <a:ext cx="119160" cy="430200"/>
              </a:xfrm>
              <a:prstGeom prst="rect">
                <a:avLst/>
              </a:prstGeom>
              <a:solidFill>
                <a:srgbClr val="9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93"/>
              <p:cNvSpPr/>
              <p:nvPr/>
            </p:nvSpPr>
            <p:spPr>
              <a:xfrm>
                <a:off x="8078760" y="6326280"/>
                <a:ext cx="85320" cy="17964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94"/>
              <p:cNvSpPr/>
              <p:nvPr/>
            </p:nvSpPr>
            <p:spPr>
              <a:xfrm>
                <a:off x="7760520" y="6161400"/>
                <a:ext cx="239400" cy="43272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5"/>
              <p:cNvSpPr/>
              <p:nvPr/>
            </p:nvSpPr>
            <p:spPr>
              <a:xfrm>
                <a:off x="7760520" y="6683040"/>
                <a:ext cx="239400" cy="50400"/>
              </a:xfrm>
              <a:prstGeom prst="rect">
                <a:avLst/>
              </a:prstGeom>
              <a:solidFill>
                <a:srgbClr val="ff2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96"/>
              <p:cNvSpPr/>
              <p:nvPr/>
            </p:nvSpPr>
            <p:spPr>
              <a:xfrm>
                <a:off x="8827920" y="6179040"/>
                <a:ext cx="147240" cy="4957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97"/>
              <p:cNvSpPr/>
              <p:nvPr/>
            </p:nvSpPr>
            <p:spPr>
              <a:xfrm>
                <a:off x="8827920" y="6712920"/>
                <a:ext cx="147240" cy="33120"/>
              </a:xfrm>
              <a:prstGeom prst="rect">
                <a:avLst/>
              </a:prstGeom>
              <a:solidFill>
                <a:srgbClr val="7c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98"/>
              <p:cNvSpPr/>
              <p:nvPr/>
            </p:nvSpPr>
            <p:spPr>
              <a:xfrm>
                <a:off x="8413920" y="6285240"/>
                <a:ext cx="92160" cy="46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99"/>
              <p:cNvSpPr/>
              <p:nvPr/>
            </p:nvSpPr>
            <p:spPr>
              <a:xfrm>
                <a:off x="8219160" y="6143760"/>
                <a:ext cx="140400" cy="595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81" h="470">
                    <a:moveTo>
                      <a:pt x="62" y="80"/>
                    </a:moveTo>
                    <a:lnTo>
                      <a:pt x="62" y="47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62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00"/>
              <p:cNvSpPr/>
              <p:nvPr/>
            </p:nvSpPr>
            <p:spPr>
              <a:xfrm>
                <a:off x="8451720" y="6356520"/>
                <a:ext cx="27000" cy="18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D760-C37E-4FA7-A08B-A7BB485FC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-1424880" y="1905120"/>
            <a:ext cx="120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briola"/>
              </a:rPr>
              <a:t>http://staycle.wikispaces.com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0" y="1066680"/>
            <a:ext cx="9193320" cy="75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briola"/>
              </a:rPr>
              <a:t>Knowledge</a:t>
            </a: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7. List new words that you learned reading this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Write down their dictionary pronunciation and mea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8. When did the story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9.Where did the story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20. What is the title, author, publisher, illustrator, gen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21. List other books the author has wr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304920" y="1523880"/>
            <a:ext cx="838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briola"/>
              </a:rPr>
              <a:t>Ways of Publishing Book Trai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briola"/>
              </a:rPr>
              <a:t>*Publish them to a wiki (wikispace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briola"/>
              </a:rPr>
              <a:t>*Burn them to a DV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briola"/>
              </a:rPr>
              <a:t>*Put them on a central compu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0" y="2590920"/>
            <a:ext cx="8686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briola"/>
              </a:rPr>
              <a:t>Points to con</a:t>
            </a: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si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Begin with a “hook” for the aud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Give a time minimum and maxim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Set the mood of the book by the reflection of your vo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Put text before pi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457200" y="27432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Try to persuade your listeners to read your 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End with a cliff ha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Scan the book cover and use it in the book trailer so that students can easily find the 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Bloom’s taxonomy Book Review Questions: http://theliteracylink.com/bloom_questions.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Generic Literatur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http://tinyurl.com/bookreport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briola"/>
              </a:rPr>
              <a:t>A book trailer is a movie trailer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Gabriola"/>
              </a:rPr>
              <a:t>book review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1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*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Movie Maker         *Blabberiz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Photo Story            *Goanim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Glogster          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J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Prezi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   *Flipsh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*PowerPoint            *Animat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99"/>
          <p:cNvSpPr/>
          <p:nvPr/>
        </p:nvSpPr>
        <p:spPr>
          <a:xfrm>
            <a:off x="0" y="2514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briol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briola"/>
              </a:rPr>
              <a:t>Gabri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briola"/>
              </a:rPr>
              <a:t>http:/tinyurl.com/6d2hf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briola"/>
              </a:rPr>
              <a:t>Kids.yahoo.com/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briola"/>
              </a:rPr>
              <a:t>http://getreal.wikispaces.com/Book+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briola"/>
              </a:rPr>
              <a:t>Book Trailers for R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briola"/>
              </a:rPr>
              <a:t>http://www.booktrailersforreader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1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-2644200" y="1219320"/>
            <a:ext cx="13920120" cy="67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briola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Students read a boo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They then answer a list of question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3.Students use a storyboard to organiz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their book trail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briola"/>
              </a:rPr>
              <a:t>4. They then create a movie trail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27432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Evalu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Who do you think the author intended to read this book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What was the author’s purpose in writing the book? What was his mess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Is the title a good one or a poor one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briol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briola"/>
                <a:ea typeface="DFKai-SB"/>
              </a:rPr>
              <a:t>Did you like the way the story ended? Without explaining the ending, expand on why or why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11430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5.Which character in the book could you most identify with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6. What did you think was the most interesting part of the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7. Was the main character good or bad? Support your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8. Pick your favorite quote of the book. Explain what the quote means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0" y="914400"/>
            <a:ext cx="8534520" cy="90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briola"/>
              </a:rPr>
              <a:t>APPLICA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9. Did this book remind you of anything that has happened to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10. Did this book give you any new ideas about yourself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briola"/>
              </a:rPr>
              <a:t>11.What lessons did you learn from this boo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22860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briola"/>
              </a:rPr>
              <a:t>COMPREHENS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2. What was the problem in the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3. Did anyone in the book do something you did not 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4. Tell in your own words the beginning of the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5. Draw a new book cover that represents the s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briola"/>
              </a:rPr>
              <a:t>16. Make a map showing the setting of the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11, 2011                Book Tr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45:45Z</dcterms:created>
  <dc:creator>Ellen Finkelstein</dc:creator>
  <dc:description/>
  <dc:language>en-US</dc:language>
  <cp:lastModifiedBy>staycle</cp:lastModifiedBy>
  <dcterms:modified xsi:type="dcterms:W3CDTF">2011-07-05T14:05:36Z</dcterms:modified>
  <cp:revision>32</cp:revision>
  <dc:subject/>
  <dc:title>The Library</dc:title>
</cp:coreProperties>
</file>